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418831"/>
        <c:axId val="23389947"/>
      </c:barChart>
      <c:catAx>
        <c:axId val="444188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89947"/>
        <c:crosses val="autoZero"/>
        <c:auto val="1"/>
        <c:lblAlgn val="ctr"/>
        <c:lblOffset val="100"/>
        <c:noMultiLvlLbl val="0"/>
      </c:catAx>
      <c:valAx>
        <c:axId val="233899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188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4F44-7F88-489B-937B-21840BDF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3C3D-DEA0-4C9F-8CDF-5DE1BF3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996-828C-431B-9211-5F54F51F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9C59-8D2F-4E24-9E9C-14A88A25D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83D-5453-4C1D-9267-1C13B11B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66F6-93B2-49E0-AE0E-DD951041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4906-9C5D-4DD4-AA9D-2C34923D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53FE-AD26-4434-AEAC-8EABA960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FBA-01AC-473C-BA9F-96343038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6703-9A64-44F4-9E27-24E1A20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E35A-1F57-4719-BAF9-0FC36E1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47D-1986-4020-B59D-9C5181B0C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AA178-6D04-4BA7-86FD-D0C6BFC8D1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