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20843"/>
        <c:axId val="13934910"/>
      </c:barChart>
      <c:catAx>
        <c:axId val="98820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34910"/>
        <c:crosses val="autoZero"/>
        <c:auto val="1"/>
        <c:lblAlgn val="ctr"/>
        <c:lblOffset val="100"/>
        <c:noMultiLvlLbl val="0"/>
      </c:catAx>
      <c:valAx>
        <c:axId val="13934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20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52F-197D-47E2-B854-835CA727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72B-9096-4CC7-8DC8-92DE173E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218-9EDF-4428-B0BF-1EE9CBF4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D44-07C2-4A9A-A966-2F39707C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D7E-6963-4751-8B0A-C3E6D528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DF2-FFEB-43EF-BF38-C9DC55B9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503-3EB9-498A-99B1-6A98E0C7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5FF-D26C-4B0B-8BC3-28494077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B8F-EC0A-4759-8BF4-60F5A544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3C3-525B-4D79-B1D3-DC02A11A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125-8404-4FF1-8E06-93D0625F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8CE-16E8-4736-9A70-C9F93A45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830D3-D8A8-4FC6-88A0-049E80C817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