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457554"/>
        <c:axId val="61984793"/>
      </c:barChart>
      <c:catAx>
        <c:axId val="384575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984793"/>
        <c:crosses val="autoZero"/>
        <c:auto val="1"/>
        <c:lblAlgn val="ctr"/>
        <c:lblOffset val="100"/>
        <c:noMultiLvlLbl val="0"/>
      </c:catAx>
      <c:valAx>
        <c:axId val="619847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4575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A759-B550-454F-BE52-995943EC5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42A1-A8F5-4611-9586-8E91B6527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4A8E-C4A7-4848-A2EB-A5E0DD13C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CDAA-FA12-4387-B5BB-591800CBE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2D67-B12E-4642-95CD-4EACCF612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AF3D-D9D3-4327-8558-CA21A9E23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284D-F59C-4100-800E-4E20F2FFD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BB2A-01A6-457B-A0EF-B21BC6938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DDA8-7B0B-4D7B-9EC8-96D96B390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2D73-CFB2-44BE-99DC-FE027783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D59E-4970-490A-A893-3B92C48D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878E-86CE-450B-B9C4-62ED958C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CAA643-155B-49EF-9C07-7DAA4A5BAF3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