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6573723"/>
        <c:axId val="44808418"/>
      </c:barChart>
      <c:catAx>
        <c:axId val="4657372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808418"/>
        <c:crosses val="autoZero"/>
        <c:auto val="1"/>
        <c:lblAlgn val="ctr"/>
        <c:lblOffset val="100"/>
        <c:noMultiLvlLbl val="0"/>
      </c:catAx>
      <c:valAx>
        <c:axId val="4480841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57372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89158-C365-4450-A503-B46BCC40A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7CD48-BE3A-4E53-B366-42EA2ED4C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4435B-D091-4A46-9733-FECFA4CBB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B9895-C86F-4429-BE68-6A3CDE788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74E12-2B37-45A8-9C41-A3DB0B63B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06A5B-9472-4E48-9571-D8380FE6E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8E9F1-AB51-468A-BD3E-87D24C163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24AC5-5D94-4163-B18C-90B42F9C0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B5D3B-EA47-4635-9ED1-CA2DB3A88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8F3F5-B2DE-40A5-8A2C-1591E4A17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8D549-AB57-46A9-9891-74902AF1B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96314-CF31-4496-9C1F-2513215A7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B382D3-D1BB-4CD8-87CF-F7C23361FFD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