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99958"/>
        <c:axId val="4733636"/>
      </c:barChart>
      <c:catAx>
        <c:axId val="95899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3636"/>
        <c:crosses val="autoZero"/>
        <c:auto val="1"/>
        <c:lblAlgn val="ctr"/>
        <c:lblOffset val="100"/>
        <c:noMultiLvlLbl val="0"/>
      </c:catAx>
      <c:valAx>
        <c:axId val="4733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99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EB9-0C04-4B48-AC6F-DB5F04B0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30D-1A15-4F58-A970-E3AAFE0D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D3B-0DF7-4A65-B9B3-EF952512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C64-63C8-4E55-82AC-7048DC27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6EB-8F67-4BA1-A1E0-7DC7A61E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64F-2A8C-40C8-8E5C-207D85B0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C7A-8332-4FE4-A9EE-066F37F1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312-9D61-45C6-B30D-8AE6F544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263-3137-40E4-BF66-019FCAA9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F90-BE9B-4C06-8672-ADBAD3AF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D5B-134E-4807-BD03-BFDABCF1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DA5-79AC-49C0-9C1E-B982B5F6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B4824-B391-477F-B0B6-B95F76CD27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