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18423"/>
        <c:axId val="21315017"/>
      </c:barChart>
      <c:catAx>
        <c:axId val="970184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15017"/>
        <c:crosses val="autoZero"/>
        <c:auto val="1"/>
        <c:lblAlgn val="ctr"/>
        <c:lblOffset val="100"/>
        <c:noMultiLvlLbl val="0"/>
      </c:catAx>
      <c:valAx>
        <c:axId val="213150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184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A7F-AF75-4842-8F00-E8A2D9EC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84F-4CFB-4CD0-B62D-077367ED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1924-1EC0-44DD-9C4C-E8DED417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FB7-78F6-4EB2-A4CC-94CBF139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973C-0146-4579-8287-AA9D229A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7497-5C45-40E3-9D20-EDBBE49B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A1D7-E551-4485-B94C-C191CB0E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7C9-D6AD-49CF-9B2B-E0CF0A1E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1B50-D758-4AA9-B266-C1BCFA59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807-E04E-4B62-B928-D07039AF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2F5-42D7-4B0F-B97F-46DDF1C6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3910-7D01-4483-945E-7CCD9692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10FB4-9B17-46CD-B880-F9C9222BD5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