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71356"/>
        <c:axId val="11400426"/>
      </c:barChart>
      <c:catAx>
        <c:axId val="88371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00426"/>
        <c:crosses val="autoZero"/>
        <c:auto val="1"/>
        <c:lblAlgn val="ctr"/>
        <c:lblOffset val="100"/>
        <c:noMultiLvlLbl val="0"/>
      </c:catAx>
      <c:valAx>
        <c:axId val="11400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71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ADB-EA73-492D-BA8A-FBCD28EA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1F5-D8EE-4943-9C05-5AF28EDF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935-63E3-40EB-8810-4639F08B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9FF-3EDC-46C2-8AA2-D959C35B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E5C-B5A1-4695-B78C-BAA6708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9DB-42B8-47EE-A23B-C5265599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94A-F18B-415E-B11E-5DC5B428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F51-1181-434F-9D63-BB5D54FB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EDC-21A9-4D54-8A29-4201E9BD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685-A111-44B6-99A2-991EFCA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608-BC8B-4BDC-B334-C27723E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4ED-0208-46E7-AFDC-2D2F57D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E037D-ACD6-4FAB-B24A-483F86F0EE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