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72725"/>
        <c:axId val="58148418"/>
      </c:barChart>
      <c:catAx>
        <c:axId val="54572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48418"/>
        <c:crosses val="autoZero"/>
        <c:auto val="1"/>
        <c:lblAlgn val="ctr"/>
        <c:lblOffset val="100"/>
        <c:noMultiLvlLbl val="0"/>
      </c:catAx>
      <c:valAx>
        <c:axId val="58148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72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F5C-4E45-4B2F-A622-81CC577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045-0755-4D0F-991F-35401D82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E69-34C8-402A-B6CA-7B0AA35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1D2-F93E-4560-B3E2-48674F8E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6CD-10FA-4AB1-ADBC-200DEF3B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688-5DB4-4C99-9E0C-40AB4D8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9EF-EB1C-4EF8-9FC6-5E29A31D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49A-8C9C-4328-8466-F92C2042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FF8-C21F-470D-871D-65DE78F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BBA-BC83-4130-AC8C-229AC79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9D9-F755-47BC-B96B-144502E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59C-A14A-428C-87F0-B234D7E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CD0E3-4F12-4408-A045-C360F22C7A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