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240961"/>
        <c:axId val="17359541"/>
      </c:barChart>
      <c:catAx>
        <c:axId val="602409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59541"/>
        <c:crosses val="autoZero"/>
        <c:auto val="1"/>
        <c:lblAlgn val="ctr"/>
        <c:lblOffset val="100"/>
        <c:noMultiLvlLbl val="0"/>
      </c:catAx>
      <c:valAx>
        <c:axId val="173595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409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B97F-46BC-4AC7-A3FE-0166CE8F1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772A-A592-437C-A878-0EBD8809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B55E-9A14-4A90-A93F-80E435F49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AA65-B549-47FA-B8E2-45D376AAF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48C1-7DCC-43E1-B62D-FD28E288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8713-3702-42B4-BE1A-A1E98F37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CBAF-BA91-40AE-BBD0-66D73CD4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28DB-F9C6-45A5-B255-DB8DFDCD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83D3-ED5A-4DFB-BCF5-E9B6EFE9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6527-7C31-41BE-8D2F-72349E86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2222-B30F-4932-A02B-4C0E669A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09AE-2AA9-43D5-A208-E17C59A0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B97C9-BF9D-4F9E-9FC0-B4EE943A34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