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66152"/>
        <c:axId val="82523292"/>
      </c:barChart>
      <c:catAx>
        <c:axId val="95661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523292"/>
        <c:crosses val="autoZero"/>
        <c:auto val="1"/>
        <c:lblAlgn val="ctr"/>
        <c:lblOffset val="100"/>
        <c:noMultiLvlLbl val="0"/>
      </c:catAx>
      <c:valAx>
        <c:axId val="825232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661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B9B2-6A44-46FD-AE9A-ED9856B8A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D6F3-2934-4C36-83FF-0760D4F6B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B7D0-36A8-4C34-84AF-59E7AD46F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7A03-E990-43D0-A31A-C9CAF4F59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33FB-2DDE-42E6-A598-4801BC8D8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2BCA-B1FD-4329-B364-101EEC3AF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AA37-F9C7-4564-85DE-B48421B44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4AB2-0C6A-4B92-96DA-5F9BA0175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6386-A21B-4C56-937E-B6AE808A2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27FC-678E-4464-B24E-A22AB90CC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57EB-6C83-4E94-B7EC-8B6CE750D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118F-2377-4C0C-AD37-D99108FC6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166814-5B52-4150-B59D-DE211D74CDB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