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29631"/>
        <c:axId val="80843898"/>
      </c:barChart>
      <c:catAx>
        <c:axId val="74129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43898"/>
        <c:crosses val="autoZero"/>
        <c:auto val="1"/>
        <c:lblAlgn val="ctr"/>
        <c:lblOffset val="100"/>
        <c:noMultiLvlLbl val="0"/>
      </c:catAx>
      <c:valAx>
        <c:axId val="80843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29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303-8A7B-44B4-B493-48F3BB53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425-C4B3-4F32-A6AB-D8A5C706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BAB-A3C5-4D97-AAD9-FE33AE9D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E0F-43B2-4627-B654-E989E957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138-ED38-43D7-80B5-98590A78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2E7-F6F7-4A9B-8851-847736DB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C8E-73BB-4A3D-A0A4-BB219154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0A3-02E7-4AD4-AC86-FD17FE2D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190-6B98-4861-95FF-91C6E8B1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B8A-F4C9-437B-B7F7-D41A2705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5CC-B602-450C-BDBA-227E1C5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4CA-4307-4D02-8AC6-4C2E6158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5D7D5-6967-4DC8-BEA5-F53A8FC778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