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53902"/>
        <c:axId val="63245749"/>
      </c:barChart>
      <c:catAx>
        <c:axId val="25653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5749"/>
        <c:crosses val="autoZero"/>
        <c:auto val="1"/>
        <c:lblAlgn val="ctr"/>
        <c:lblOffset val="100"/>
        <c:noMultiLvlLbl val="0"/>
      </c:catAx>
      <c:valAx>
        <c:axId val="63245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3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72D-726B-478B-A468-1FA7CDD4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A5F-23C3-40AF-8A0C-B73CDE4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B99-3498-41FA-BEE8-64C384F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60E-43D3-4960-9DDF-800A4CF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286-C7F4-4806-896E-74B777A2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061-92D0-4EE7-9FC1-DF38CFB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53F-A2CB-4474-8B20-73629A7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AC0-8D6F-4DCE-B707-417469F7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85A-FD8C-4D33-8C1C-143CC7B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F78-FFBA-4CD5-AD56-3C1E548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26B-6255-4EA5-87FA-A4E1066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E80-ED39-4213-A260-49CF610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58D1-255F-4449-98C3-0E2663B5C6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