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02551"/>
        <c:axId val="34028068"/>
      </c:barChart>
      <c:catAx>
        <c:axId val="49802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28068"/>
        <c:crosses val="autoZero"/>
        <c:auto val="1"/>
        <c:lblAlgn val="ctr"/>
        <c:lblOffset val="100"/>
        <c:noMultiLvlLbl val="0"/>
      </c:catAx>
      <c:valAx>
        <c:axId val="34028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02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E74-0E73-4829-ADEB-8C9AA231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76A-2FDB-4A9B-BF25-38A946ED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C5A-A740-4C6D-99F0-DD7662F4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000-F4DB-4D7A-9135-E5CFB4ED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3B5-929D-4D05-A1D9-3E40BD3C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FE9-5CF7-47E7-AA28-D7887571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621-6976-4591-9B9D-45C7F8A5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7BD-235B-4530-AF4C-CFD83A34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5A1-7A77-48B1-B132-151C6AE1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6AA-CC19-41B7-8D46-F21A948D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7D1-25BC-42B5-BF23-93E84B6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614-E9BC-49E7-AA0E-BFCD3CA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A5F81-0A1D-43B4-8FEE-1A42B5379E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