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04386"/>
        <c:axId val="42384504"/>
      </c:barChart>
      <c:catAx>
        <c:axId val="32604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84504"/>
        <c:crosses val="autoZero"/>
        <c:auto val="1"/>
        <c:lblAlgn val="ctr"/>
        <c:lblOffset val="100"/>
        <c:noMultiLvlLbl val="0"/>
      </c:catAx>
      <c:valAx>
        <c:axId val="42384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04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C79-E289-4CA1-95EC-3070F9C9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C48-1698-42A5-B676-31704740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396-F384-4E6C-922D-94381C83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C18-DE68-44E1-AD9B-CE9153E8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04A7-64F5-4B0E-9E6B-9EE20622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EB2-0E17-459E-AEE1-D218142B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B62-B45C-47FE-82E7-639ED51C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13FE-40F0-45A4-99F0-50A9B5AC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B4E-5610-49FC-B076-212DD239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F3E-3D98-468E-B7FB-054AE775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788-FFA7-48EB-AE69-F3ECCAFC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9D0-8C5D-437C-8835-E05FE531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9BAF0-71B3-43BC-8B92-84FFEE61F6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