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20836"/>
        <c:axId val="38831253"/>
      </c:barChart>
      <c:catAx>
        <c:axId val="53120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1253"/>
        <c:crosses val="autoZero"/>
        <c:auto val="1"/>
        <c:lblAlgn val="ctr"/>
        <c:lblOffset val="100"/>
        <c:noMultiLvlLbl val="0"/>
      </c:catAx>
      <c:valAx>
        <c:axId val="38831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20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66C-DE1F-43B0-9425-5F52B881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819-4B0D-4531-AD10-58983E80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7EE-3A1E-434B-8B47-44488A9F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6B2-46AF-40AE-AAB7-4720DA8B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01D-7019-4D90-951B-54AA558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DAA-A6A6-48C5-829A-7071D7D2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4F3-E765-4E24-83C1-F5DD9044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C53-3BB3-4C4E-A620-A66FE739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6D4-BFD7-4C1C-923D-B04679F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86A-54DB-4C6A-8FB5-E4644B1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351-1CB8-44BF-AE89-A94BFA4A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6B7-C4AF-4157-995A-97BDA55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DE42C-7134-4B0C-9DD6-148FFDCD31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