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69705"/>
        <c:axId val="96202859"/>
      </c:barChart>
      <c:catAx>
        <c:axId val="29469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2859"/>
        <c:crosses val="autoZero"/>
        <c:auto val="1"/>
        <c:lblAlgn val="ctr"/>
        <c:lblOffset val="100"/>
        <c:noMultiLvlLbl val="0"/>
      </c:catAx>
      <c:valAx>
        <c:axId val="96202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9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BA3-62D3-420C-8156-77465F3A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43B-CE38-40BA-9B51-5CB9172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AC7-967F-42F2-9E01-86E3BEAF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7F7-0B10-4C9F-AC78-CFB0C7C6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908-77D4-4546-86A7-45E52B20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287-6448-4490-B0C2-CB1D3A2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13E-1AA7-45F2-BF71-65AE10D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A9B-E334-48CA-8786-7EC0D48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7E4-441B-417B-8F94-C0D99B9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D34-D20B-4814-8FAE-3D9825CF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09E-C138-45A9-AE65-0A12155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FDA-4F8F-4B75-9636-917993F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1D97B-1E01-4BC5-8FF0-3E9D0881AD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