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62424"/>
        <c:axId val="41734831"/>
      </c:barChart>
      <c:catAx>
        <c:axId val="39162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34831"/>
        <c:crosses val="autoZero"/>
        <c:auto val="1"/>
        <c:lblAlgn val="ctr"/>
        <c:lblOffset val="100"/>
        <c:noMultiLvlLbl val="0"/>
      </c:catAx>
      <c:valAx>
        <c:axId val="41734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62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EDE-B3D0-45EF-A501-2746EB4A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EC9-571E-49AE-A60E-B0ABF530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E85-3D41-403A-9E21-585C2A42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77F-ED9D-472C-9CBE-476E07E5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E71-1809-4FE5-A583-8157AAA5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F50-4223-4C40-BA57-05E5A55F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48E-FE45-4DD0-95B8-427E8699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806-C51E-480A-BFF4-663E1FE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AF7-F781-4A19-BC63-511AF6FF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54F-A4FE-4CA1-AF6D-F651E208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6B1-9BD9-4925-B34F-FA37BFBC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ADE-0FD0-4142-ABA1-729FC6A5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6968D-5EB0-4460-B0DB-E8FA33E495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