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92507"/>
        <c:axId val="72256603"/>
      </c:barChart>
      <c:catAx>
        <c:axId val="11092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56603"/>
        <c:crosses val="autoZero"/>
        <c:auto val="1"/>
        <c:lblAlgn val="ctr"/>
        <c:lblOffset val="100"/>
        <c:noMultiLvlLbl val="0"/>
      </c:catAx>
      <c:valAx>
        <c:axId val="72256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92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AF2-8A84-452C-A1FF-AF0C11C2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446-F509-40C2-9082-CB42E100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6A9-67FC-400F-B444-8FFADCA9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909-0D17-4296-A679-FAD6C007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656-A05E-42DA-AB75-4FDCF23F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E6C-C28B-4484-9247-92892DDB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D6E-518A-4605-B167-0DD8AE2A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63B-9EF3-4E43-AF4E-066CC453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540-E2E1-4B6C-826D-DB6A225A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B0B-2167-4659-84A6-F7A476E3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E52-86CF-4CEC-A692-BCCE2A5C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C85-1EE3-4E97-9C55-1F8498D2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40274-362C-42FD-9E34-B29F9D8000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