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79103"/>
        <c:axId val="92076122"/>
      </c:barChart>
      <c:catAx>
        <c:axId val="89879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6122"/>
        <c:crosses val="autoZero"/>
        <c:auto val="1"/>
        <c:lblAlgn val="ctr"/>
        <c:lblOffset val="100"/>
        <c:noMultiLvlLbl val="0"/>
      </c:catAx>
      <c:valAx>
        <c:axId val="92076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79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52E-4AF9-4DD8-ACA6-3A6E1552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5AB-356B-4250-B4BB-2348FED6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FDE-EB9C-463E-B4CF-1C66ECBE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08C-FE35-4998-A725-644098BC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F74-FCED-4385-B952-C6E16500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D3A-332A-4AB4-99EB-66CE7356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263-C39F-44A2-B138-BCA69D5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0EE-76C9-4091-BD35-A821AD98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670-5319-4F47-B458-57FD7E42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31F-184B-404B-8A4F-7042B1F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F41-6715-4292-BC19-0EAA4EC5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AF8-F98A-4886-9E03-96C364F3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42298-7B85-49EB-BFDB-9D61CA4C25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